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B50C-7D88-4DD9-B604-37379D9EC96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EC5B-3CBA-4F05-BA5F-FD2941D2230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27B5-D8D8-4FF4-8237-1007807598E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3A93-9AC3-41D4-8908-289FBCB8A1C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9E41-26E5-4AE5-B0F8-A119724222A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A924-B71A-452B-BA41-706D185AA7D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7B24-5AF7-403A-AC88-3AE7138E108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501D-6CF8-4001-87E2-DA839DAB4BE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B058-B4D8-485F-9177-D1C5F21EF36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E129-25E3-44A3-8704-BFF968BD09E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E580-1155-41BA-85BE-82345781D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BD5A-2D7A-4301-A979-DD156F26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06E4-9773-48DF-976D-A5A7D528F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3FD1-DADF-4DCA-8D99-003690E51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AFDB-E4CC-417E-8493-3EB96E1F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2A14-CF21-4C36-B90B-D0538841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CAC4-1887-47AF-8056-CF6017E29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BF33-9275-4883-92E0-FE4B26A8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CF1F-3112-466B-B75D-281BA178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9BBE-D4F5-4598-8170-04E32042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6AB5-15EE-489B-899C-AD1A1F72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2147-1655-4C00-8D7E-6026A3AA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6948-D9C2-4A23-B03D-85897C7E4703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alcolmmacgregor.com/oaktrees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hyperlink" Target="http://www.bostocktree.on.ca/images/gmothlrv.jpg" TargetMode="External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cosystems and Ecological Comm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http://t3.gstatic.com/images?q=tbn:ANd9GcQdREgUYiuXKOeczxiwRq2mF-0QW81IleBiwU7If68jECRvHhw&amp;t=1&amp;usg=__V9Xe7xngjl8YG0aEw5F9kAbc434="/>
          <p:cNvPicPr/>
          <p:nvPr/>
        </p:nvPicPr>
        <p:blipFill>
          <a:blip r:embed="rId1"/>
          <a:stretch/>
        </p:blipFill>
        <p:spPr>
          <a:xfrm>
            <a:off x="380880" y="3733920"/>
            <a:ext cx="3760920" cy="2590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ttp://year5.skola.edu.mt/wp-content/uploads/2009/03/gray-wolves.jpg"/>
          <p:cNvPicPr/>
          <p:nvPr/>
        </p:nvPicPr>
        <p:blipFill>
          <a:blip r:embed="rId2"/>
          <a:stretch/>
        </p:blipFill>
        <p:spPr>
          <a:xfrm>
            <a:off x="4724280" y="3657600"/>
            <a:ext cx="373392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stone Spe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 species which has a large effect on its community or eco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ters are an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are humans…BIG TIME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s look at some more examples as hw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ch video on APES website and take notes o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5 categories of keystone spec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Provide an example of each and state why it is so importa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ase Study: The Acorn Connect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oaktre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685800"/>
            <a:ext cx="2895480" cy="2698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Acorns"/>
          <p:cNvPicPr/>
          <p:nvPr/>
        </p:nvPicPr>
        <p:blipFill>
          <a:blip r:embed="rId3"/>
          <a:stretch/>
        </p:blipFill>
        <p:spPr>
          <a:xfrm>
            <a:off x="838080" y="4267080"/>
            <a:ext cx="2114640" cy="2163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Field mouse nibbling on seed scattered near our campsite dustbin"/>
          <p:cNvPicPr/>
          <p:nvPr/>
        </p:nvPicPr>
        <p:blipFill>
          <a:blip r:embed="rId4"/>
          <a:stretch/>
        </p:blipFill>
        <p:spPr>
          <a:xfrm>
            <a:off x="6324480" y="4495680"/>
            <a:ext cx="2266920" cy="1924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gmothlrv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81280" y="1447920"/>
            <a:ext cx="2133720" cy="1338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Figure 6"/>
          <p:cNvPicPr/>
          <p:nvPr/>
        </p:nvPicPr>
        <p:blipFill>
          <a:blip r:embed="rId7"/>
          <a:stretch/>
        </p:blipFill>
        <p:spPr>
          <a:xfrm>
            <a:off x="6248520" y="1371600"/>
            <a:ext cx="2514600" cy="1531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http://www.ornithology.com/images/BabyBirds_Miller_061705.jpg"/>
          <p:cNvPicPr/>
          <p:nvPr/>
        </p:nvPicPr>
        <p:blipFill>
          <a:blip r:embed="rId8"/>
          <a:stretch/>
        </p:blipFill>
        <p:spPr>
          <a:xfrm>
            <a:off x="3108240" y="3962520"/>
            <a:ext cx="26161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orn 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corn study show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vironmental Unit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ving thing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s affect these relation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co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tical to understand this concept for good natural resource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know how everything is interconn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know an ecosystem’s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s structu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ess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: how is it changing over tim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nergy Flow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od webs and food chai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" descr="food_chain"/>
          <p:cNvPicPr/>
          <p:nvPr/>
        </p:nvPicPr>
        <p:blipFill>
          <a:blip r:embed="rId1"/>
          <a:stretch/>
        </p:blipFill>
        <p:spPr>
          <a:xfrm>
            <a:off x="533520" y="1219320"/>
            <a:ext cx="2971800" cy="53337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trophic_levels_individuals"/>
          <p:cNvPicPr/>
          <p:nvPr/>
        </p:nvPicPr>
        <p:blipFill>
          <a:blip r:embed="rId2"/>
          <a:stretch/>
        </p:blipFill>
        <p:spPr>
          <a:xfrm>
            <a:off x="3876840" y="1219320"/>
            <a:ext cx="4886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FoodWebs"/>
          <p:cNvPicPr/>
          <p:nvPr/>
        </p:nvPicPr>
        <p:blipFill>
          <a:blip r:embed="rId1"/>
          <a:stretch/>
        </p:blipFill>
        <p:spPr>
          <a:xfrm>
            <a:off x="609480" y="1143000"/>
            <a:ext cx="8153640" cy="546732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304920" y="3049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lexity and Interconnected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8"/>
          <p:cNvSpPr/>
          <p:nvPr/>
        </p:nvSpPr>
        <p:spPr>
          <a:xfrm>
            <a:off x="1219320" y="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Keystone Species: Ott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0:25:04Z</dcterms:created>
  <dc:creator>tosborne</dc:creator>
  <dc:description/>
  <dc:language>en-US</dc:language>
  <cp:lastModifiedBy>infosys</cp:lastModifiedBy>
  <dcterms:modified xsi:type="dcterms:W3CDTF">2015-10-01T22:00:04Z</dcterms:modified>
  <cp:revision>21</cp:revision>
  <dc:subject/>
  <dc:title>Chapter 6</dc:title>
</cp:coreProperties>
</file>